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48451"/>
        <c:axId val="59044731"/>
      </c:barChart>
      <c:catAx>
        <c:axId val="19848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4731"/>
        <c:crosses val="autoZero"/>
        <c:auto val="1"/>
        <c:lblAlgn val="ctr"/>
        <c:lblOffset val="100"/>
        <c:noMultiLvlLbl val="0"/>
      </c:catAx>
      <c:valAx>
        <c:axId val="59044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8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062-979E-4BA2-8D06-81297E6D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FA5-8A8E-4400-B269-DC8B88A6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B0C-9AED-4C07-AF1C-CF2DDCA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182-D452-474C-B3F3-C1381CC9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275-DE32-4B1E-989B-B9BFD4C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EDB-FAA4-40F6-96A2-F9A7030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ED0-11D7-4C18-A0F8-8F4964AC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964-1699-434B-B5DF-A872DB12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C80-5DA7-43F7-9CAC-48402F1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EE4-6564-4E27-B9AC-A67A0A84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A61-15C5-4FFF-AF8D-DB41AA8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402-B490-448B-800E-A9CEA10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40E7-876E-48DF-A25E-4E41F7FAE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